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660-D2D2-4323-A7A3-5E3554F7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3F5-D321-42CD-9ABA-9E83FB52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5B75C-5306-4862-8C5D-3D9D1D6F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13A63-A2CB-47B7-BA80-6D31A1E2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2AE76-8C83-43A2-B6D8-F4F8BA8C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828D0-8809-431C-B0F1-C0548C56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6D4BE-FE5E-4EFF-AF28-E0D396DD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94567-E3D9-4C33-8354-4EFC4297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5A0C7-27D6-4967-92C5-04FDF74B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ACED0-5374-47A2-8040-64639B37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2FB54-8645-453C-B0D9-325DD8D9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FE6CF-DD8D-4B26-93FB-2D50BDE1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6D4-7E57-4CF6-BC53-53EC1753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9B001-13EC-462A-AE6F-921DC5C4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4EE43-DECE-4210-9E77-5D3B6240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22C63-AAFC-4826-8F10-BF2692E2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F439A-7E1B-4DAB-A0BD-6A3458EB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F673C-E4F4-4FCE-8A42-E7BEAB93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BC28C-42F4-4DC3-9EAB-451CD0F4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F0F97-F82A-48EB-8495-DD28BA9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9695E-5650-4F26-8245-287EA47A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897AA-B21E-4602-8278-FB92DDA9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90F3E-21FA-4B02-BBF1-4BD81273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3E2-F17F-4158-BDAB-07174B31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ABB70-0338-41B2-B7A7-15246542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CEB96-0F7B-4BB3-8F81-561882E0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76E42-0B38-4809-8209-64FCE6FF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701C2-2138-4F09-9D08-457E34E5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2FBA5-E55C-4EB7-8C1B-0FB584E0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32CFF-05B6-488C-85E6-4F9872DD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2D44A-5E4B-4485-A65A-EC22F4F8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2F1F1-346B-42F3-86A4-5664FCEB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E6F31-3F07-4848-8111-6AB2EF4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371C1-5DBD-409C-978A-D9083CEB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849A-1C33-4C9F-83F4-4B592FC6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93781-3C3C-4297-9906-F88F6FF5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198CA-B679-4FBA-AADA-A17148F9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93EBF-A473-4F4F-8201-3F3D1628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2FD9B-2C55-4E51-9ECA-AD902A3B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6C9BA-B489-4421-9BE2-C3E60B2F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29BFE-9517-4D5C-BA06-E6244565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66EEA-56F1-4076-A226-5BDF0BAA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6F544-4CC0-41FF-837D-750E5969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A0A48-657E-4EF9-B0D2-A0392502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862E3-33EF-4AF1-A468-EF0BF6C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4B52-CBEE-4837-8578-AEA19ADD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6A582-38F5-449E-B64A-860FFBA1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147EF-9F42-40CB-93E9-21932D54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99822-D885-46D0-A1F8-D82B28FC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7B572-E79C-4021-A8C2-6F7E9C7F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F365A-A036-4440-B89E-D97D1E1E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1703-750D-49BD-8781-4F044E32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3307-86ED-4F78-A215-2EF1D00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E3E8-0048-4A40-8284-BDC50803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C3F7-1A88-4281-8D10-3E87E365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8E27-D4F2-4591-8E67-E6182DA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5E5-5D3E-486B-B764-857689F2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C895-7D4D-43E6-9E96-003479C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2E68-CFD6-488C-9E3C-010B073C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1AE2-17D0-4194-8F26-706FCD1F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AD6C-8E49-4981-9393-EB1EB766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1429-F3C6-4DE0-A307-9FDBB1C2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085C-B380-41EA-916A-E3722C32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5B2C-F187-484B-9C3C-B3BE7533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3CA2-AA6F-49CD-ABEE-F1B87EB8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5338-1CFD-428B-AE16-F37BAB76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C522-8067-471C-B242-E9D52D26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5FA-DD01-47DF-9738-FD22BFAF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7624-A2F0-40C5-B983-D03474DF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E98F5-42CD-4E7E-A782-6BFF81CD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D3E9-9E5E-4D82-B7E4-6F77E335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154C-40C9-4A60-B084-45819241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E92E-1AEE-45EE-9155-F3780549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C101-F85F-430F-883D-56E01176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0F05E-EB73-469A-B218-E33AA21F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117F0-CD3B-4E97-B409-5D90A7CF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07C7-F774-4567-8B17-E94FB3F6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4F17-F451-4904-B62A-483BC144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BD3-4F5B-4415-8DFD-A4663807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5E41A-8E35-41B4-A81C-E98945A5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D377-0875-491A-ADAA-E668C6AC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A7EB0-BBDC-43AB-BA9C-A036FD54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DD33-4BE1-4325-BBB9-AC0D9EF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60D34-471D-4AB5-8AA1-F547136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7472D-5A9C-4D13-BBBE-395152F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DA16-0B46-40F6-A446-75DD3C8A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83FB-9A48-4238-BEEB-F34EFD53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59A65-36D9-4A0F-A22F-C06CF217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23B66-4EDF-401E-B5FF-E9305AFB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8BF-32FE-451B-9684-DE141AE3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C9A4A-D8FC-4D05-8D21-DAB4D876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1BD9D-B9F1-4F9F-A465-D30DF9D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BF6F3-85E7-4FED-89F1-87F1C37B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78CB1-6648-4167-BCA0-9A994123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250B7-FF60-4FE8-BB19-7BE29A5C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2B8C2-E313-47D4-A3F2-23FCC3CB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B7D7-7AD0-4C94-94BE-CD22578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32C97-8A9B-4016-B74F-05E1214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14470-3CFC-4CB6-B352-8E7767DB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083CB-5F76-4089-B4FE-EBD62149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23B-8EFB-485E-B590-97D53D51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20382-A6B6-4C4B-8E8D-ABD4A5FC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3BED5-89CD-4AD5-8925-013C2A17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4042C-3E67-42B9-AFEB-E08A557F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A1205-28D5-42B9-BD59-B3FD57ED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6EB4D-9E03-4969-A4B8-F3CD6F2B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20EA-AFD8-4262-BB45-1227E5ED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C9E59-03DA-4F23-88A7-B66ECA1C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8C276-0F6C-4296-8EA9-931B7C5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9797D-F116-4D52-AD1E-57892825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F6686-6566-48B3-AF0A-625F18BE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9DE-9B20-4E8C-A197-6EBB46FF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006C0-23F6-43CD-994F-CFDCBE1E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A3957-70AD-44F3-95FA-3FB2063F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86F71-8C9A-4B7F-BBE2-A4DB0F84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F83A4-5369-4D27-AE2D-61364139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0D177-74A1-42FC-A1B3-F5419C6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64000-AD86-4D6F-88CD-D9121046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D3745-8396-4861-8C66-F392D763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43778-CB6C-4837-879D-26BB8EE4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9332-28C0-442C-98F8-1E177F65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8DE0F-E964-4B57-A854-A291E39E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53A-2D40-4C06-A6D4-AA09751C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441AD-A2F5-4CCA-BACF-2CF0D5D4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F04A-332D-480D-97DF-DFA3FE76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40961-3932-4CFB-9F13-236C3DBD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B97E5-42FC-4BDD-804C-98212E91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1B016-99EE-4B53-8EE7-4D79EA7A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BE078-F08B-4AD1-9540-4076B322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9B6D6-6CCA-47AA-A017-6A294EA6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047C-5AC8-407F-A399-DE89ECAE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0DFFC-C3A1-446E-8615-BEE4A5C5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5EDEC-936A-4DF8-A53E-4F72FDA8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68D-A375-4F3C-A817-1297B59C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C17AC-CF86-4E32-9CEA-AEA97D56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103B1-E4A8-4B18-8CF4-CCDB53A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1C57A-E273-4A4E-9637-DADBCFC9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37EEC-10B1-4C82-B01B-25C6DB20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B094F-2D95-4CE8-8ADA-624A3564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4067E-BA64-4C59-B9F8-6BF57FA2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79A9C-AD40-4AF4-B0A9-6059624C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05A28-0C9C-4ED4-BD48-E5424DAD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D35BE-B290-480E-B79F-20578BC4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D26BF-50C0-4A85-AE40-774DB9E2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B019-E7A3-4054-8FA8-5E9853CC072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0068-BEA9-4EDD-B90C-CF6927776B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5272-288A-4FB2-8E0C-29BCA217BF5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FF62-2FC7-48F5-9E19-CE46360545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BE0A-F94A-4578-8039-E956C2F6E28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FE17-C2CC-4905-8024-95114254E2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5ADF-5AF2-4626-B0BC-2A00E143CB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90FA-52BA-4A41-AFEE-E54CAB2368E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32FC-9B08-495E-8662-2BC44EF5CF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4490-05A1-4CCA-9384-AC2AA501D7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3692-E79F-48AE-BA22-B5A0932985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BB47-DDE0-40CF-93DC-27F00BF854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4 Zas pominul sa noc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 pominul sa noci ti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 milosti mi svitol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elebím ťa, Bož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život, silu, pokoj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ňom každým nové žehn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teba duša dost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zmývaš hanbu mojich ví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ktoré trpel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v mysli mojej zrána hne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ť o tej tvojej láske zn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ary Ducha zúroč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voju moc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dnes ma svojím Duchom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nezvedie ma hriešny sv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 boji viery zotr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íťazne ho dokon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33:46Z</dcterms:modified>
  <cp:revision>67</cp:revision>
  <dc:subject/>
  <dc:title>Je veľký náš Pán, on slávy je Kráľ Nech do všetkých strán  spev vrúcnych znie chvál.</dc:title>
</cp:coreProperties>
</file>